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800-6A7E-4D6B-9B79-24056DE8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E80-EBF7-44DE-8949-C70D2218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855-E252-4A43-9639-B605B84D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D6C-A5BF-432C-9A24-2D87A2D1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21F-372B-45CF-941C-6DEC5E1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FA8-24F4-406E-BCF8-BF299046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53B-81F7-4BB9-80C5-289A92C9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D49-4111-441E-9609-03A23831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02B-579C-454D-8A8C-7F449A59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5AA-F251-42CB-A332-16F5D42D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1F7-0D8F-49FE-8589-33B3263D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772-FE1F-4C2D-B1C4-9C456629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C0D5-626E-49AD-8CFE-EDAB528E8AB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y Father Would Not Show 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grid De K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ve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ag-and-bone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unterpan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nken, turned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ressing dry, mocking hum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velling dealer in old clothe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furniture and small, cheap second-hand i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dspr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Elizabeth</cp:lastModifiedBy>
  <dcterms:modified xsi:type="dcterms:W3CDTF">2014-12-04T09:12:27Z</dcterms:modified>
  <cp:revision>14</cp:revision>
  <dc:subject/>
  <dc:title>La Belle Dame Sans Merci</dc:title>
</cp:coreProperties>
</file>